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AE3-CFAB-4BBC-B927-E553423F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695-6B5C-4E31-B974-6E2C27DE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86206-624C-4ADE-87A8-8EC17FF0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8E722-85E2-4F16-B865-9677B635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ACCDA-1853-4702-80FA-2464494E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38193-B3E7-4832-8195-9F4539B4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D78D6-3F22-4897-B63A-C4743696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1C57A-2BD8-4172-A3DE-AC7EBC53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3A720-56AC-4B72-A57B-D90D7B66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7B871-692F-4226-ABC2-1587D8C0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BADB8-8969-43BB-876D-6A7C0DE9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68B87-CEF2-4BA3-BEDF-7787313B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2BE6-A835-40C4-A953-09B8A230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84154-0135-430F-94BE-5E0318EC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929EC-18E8-4CAA-BEA2-8A134AEC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465CA-619C-4104-88B7-EECDACD4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2B8C7-B956-4079-9F06-01A856B9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9253D-FF87-4EFF-8FD3-AC81FB97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94362-D279-416D-8B93-454414F2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7490D-A7A0-41A7-A505-8A8FFB60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CFC3A-CF09-4664-AA45-1814246A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51AD0-479D-4418-A4B2-DEAF6252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286FF-A275-4C4B-B168-507A7DC6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909-4A42-49CF-A4C6-76A5145C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2C4AC-3745-4D67-95DA-887D7A2E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2BA55-013A-48CF-9631-ACE08233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ED4DA-57D4-4A32-AB6D-C8D67F0A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E0445-B903-4AE4-AE5D-68D8FA67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6DB30-F8AF-4689-88EC-413A51C2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DB7BA-CBB4-4FEA-9C47-C05B4D7D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DD80D-2317-412D-9312-D8AFAEFF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2730E-94CA-439A-9843-7BD32A70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774CA-11C2-4E98-8AB2-67E1E05B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59968-C205-40C0-B64C-239405C9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6247-EA3E-41DD-85FC-CA28B89E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2D2D0-301D-4216-980D-C2EFEEA7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30376-A1EF-4E35-8C69-B8E4A2F5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ED28B-81C8-45A7-8631-24CABF7F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55AD0-C4EA-4331-8C0C-4E05A533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1E04B-D7A1-429A-8764-B258B8E7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FDE30-7184-4201-B082-A23C58AA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F1D8D-B3E5-452B-B041-7A832638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23015-ECAB-40CB-9BB6-3FF09FEC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9FEA7-8CA4-42E1-AB39-82CC2FF9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8A562-B4CE-44FB-ADE6-FCB2D82D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5E69-88FD-44B1-B707-6E2830C8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BBABE-4B9B-4601-8C98-C4D12CDF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4C03D-4ED7-48BA-A995-D1BBAC3A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C308A-8C58-4B98-B2CE-60AE6A16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736B1-74E4-4A42-88A6-009F166A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48400-A725-4401-A1E8-DE566603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48FEC-0B78-44AD-A506-4FE18791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315D74-A7D9-4BEF-B4CA-DF9482CF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5AE5C7-1552-44EF-B501-FFA52676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03EEB-1E05-4749-B0B4-4509230A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5D3B8-FECD-43EB-A215-FA4C1FD8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F586-C459-4498-9D15-460A80B8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5ECA2-3BAC-4714-8A34-767EDAD1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3A1CF-2DC1-4866-8DE7-7B20B17F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8D242E-019F-4D22-A698-22611569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576426-989A-4FFB-9EBC-FEF181BE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E9588-7665-4E96-BB50-54B73C00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E4797-12B1-4204-856C-84C68EC3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A34C9-0DD4-4158-96AC-F6A4BAEA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E8E504-74D3-476B-9115-5439098F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EB3596-619F-444F-96B8-695DA4E3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1BA446-1C85-4711-AE33-9842BB72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9CDB-777A-4F99-9B8A-916955CB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E8D915-AAB4-4196-8C31-9AA8AF70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CB1177-E7EC-44AA-A97A-0BC5100E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0DDFF-9722-4AB7-9BAF-AFC052B8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339805-7715-4497-8973-E2BB16C3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4C845B-2422-453F-BC45-AE42E52F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66EE2F-68B6-4DD8-915F-4A9A5179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6920EE-1732-46DA-9848-93276FCC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C3DB7A-96E1-4A7F-A49E-7FA3EB91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7D14E6-FAC3-42A2-84BF-D2B0A884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8B92-A5DF-4731-8D10-59576998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3517-8798-4665-A90D-3A1DBCF4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1705-B3A2-42B1-B16D-C6C89F10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A5F-869E-4051-85E5-03FABFC0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1141-D9CD-45FF-9DBE-906C1BFE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DC79-7C3A-421B-AE19-A3946E96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62C8-45E4-4B42-B788-1B4D9662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73FD-7B5F-4AAE-8E72-88743BD6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CEEF-B491-414A-ADA7-A09400F6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7B040-2153-4A11-B0CB-DA190980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E78B8-E3AB-486A-80BF-6876312E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F2E6E-E7F8-4136-8084-A6873394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71785-C65B-4D1D-ACDA-44AF6C8D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AFF17-0A40-49C4-9E82-B219602E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5D73-74BA-4CE7-A263-61A7945C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D6037-8910-4330-AC22-6894340B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04CD9-8C14-4814-9A3F-3E6C58AE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5C159-416B-477F-8275-79467402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9F5C3-3838-4155-A032-72063007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76E69-5FEE-4451-AB6E-DC8E4DC7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5A583-B8A7-48A3-94F2-3811BF39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8E94E-BC56-4512-87C2-6ADE71BF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F1730-C77F-4C9F-AC02-C5BA53C6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FB20C-B682-4A36-984D-B64C3920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982DC-78DB-4D2C-AD00-7545EBB6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475-44BB-40C5-A573-C299C8D5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F991C-118E-48D2-928A-4A19A226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5E175-87B6-49A3-9A4C-CB4C9A96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996EB-B26E-4376-B95F-01F1910F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556DA-C0E7-4816-AED1-E0CA77F5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6305F-AD4A-4F0A-B898-68D6486D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BE0C4-92A2-410A-BD31-3E80E253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AC62C-0222-4557-8BA2-90E8267B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F1930-C90D-4D48-A2D1-7F631728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94279-F2DB-4664-9BF3-CF01E7F7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2646F-0754-4BF5-A724-B8CA3095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E6D-C3B2-43AD-AFA9-6F40C009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93012-74F8-40AA-8B30-58234E9A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657CE-E736-4357-8D05-9D8E212E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9390A-94C8-46FD-A6CF-94A9678C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D365E-2E9E-460A-B8CD-782FEB8E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46B8F-6921-44FA-8824-BDDB0315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04E9A-F467-4574-BA02-16451FE5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C3F93-D119-48F0-A43D-E55A7CBB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A81C6-CF4A-4996-8624-0D24AD2C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C672D-1F7F-4A25-8F39-B435F05F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318BA-37CB-452D-BD76-5BBB16A4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546E-F198-47FE-ADBF-69E0EE90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DB623-A409-4FBA-9423-BB7CE9C7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69F95-6C69-4530-B462-E3ECE906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D6EB2-B41A-4EE2-80BE-4B22BCF9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6B2A0-5052-4BFB-9BAF-6B9D4668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C70E3-FDB0-4AB5-8D69-A6B0552F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E4DF6-07F9-4EDE-8AC6-51F8880E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6AA27-D3BC-446B-8AF7-2A2FAE6A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A61FF-9A9D-4B0E-A98E-3882296D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46D42-13C5-4FFC-8412-F838F08A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C3B88-383F-4A25-B8B4-CED864AA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4B2-F3BD-46A2-BBB1-5D4B14BA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D039E-EEBD-4134-ABE3-A9AAF765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6ACDC-73AB-458E-A2D0-A078F76B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E3273-F589-4A1C-A2C0-B1771A35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60DF9-84D9-412B-A703-506ACB39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80497-B38E-45B5-871C-4966E2DF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D446D-089C-480B-B7E8-986B138F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AAF3A-571A-4803-9E52-E7584E83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BCEFF-17C3-42D9-A788-A502FCF4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26085-CE45-4BD3-A658-E8D5CC3F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70CA0-4039-48BB-AD94-760A3E67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6465-0630-4687-991B-6EC560EF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2CCA5-EEAA-41D6-BFFD-FCD89DAB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49F83-148C-4A24-90FE-71D3678F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2AABD-0D57-45A8-A9C4-CC167AA8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88270-F48B-4693-B48A-0720FBDA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B6395-3E00-468D-A928-02DA330F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C9E18-F3FB-4FCF-A974-F8828883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C743B-B160-4944-B7F2-1B62E93A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51D01-5B6A-41C2-B6E8-00A2750B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CC69C-3C0C-4C43-9EAF-CE65AB0A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3C76C-A3BE-439A-AC4F-91861C00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C9C-349C-42C1-86EB-949CE340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CD36C-C94F-4C8A-A69D-F52AC9E0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26060-3432-40BC-9486-92D397FC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B49BD-28B8-4693-974C-22BC9BA4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4B677-EDED-4EC2-AF8D-9C941D02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8EC29-515E-45E0-9792-DB41E0AC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CCBC8-D1B2-4B7C-AD5C-1235E208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32065-C738-4537-A447-9DF06489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12F9B-55FD-458A-A666-52A827AE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6598D-A190-45BC-A4C7-9EC735D0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56774-1C8E-4F71-BDE0-609ACF9A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C9E5-5430-465D-B850-5ABFDA54BB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659C-F976-472B-BF6C-B3E9E5FBDE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D4AA-EF87-4044-AB10-E75EC8018A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F603-9DE8-4F3E-B7C5-FCEBBECD8B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CAF8-32F4-4313-A381-488935400C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BFF2-5B0D-4E5B-80B6-92AB8740C5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2065-FA07-45E4-B49E-B8841BA056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C2C6-3A20-472C-81F7-0969EA7046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6CC5-7165-44CD-915F-7BECD258F6F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4776-6D22-4284-8A63-105AE4135D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AF0F-461F-437D-AABA-12226843AC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ADE9-B5DE-4F96-869A-CA99F1C5B2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181B-BA0C-4C2C-A662-852AE46D7E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280A-F8E1-4BFC-9239-BF3D64B8A0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4EFA-23FC-4274-8EFF-76C687A51B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C810-9454-48EC-A59B-0FBCD37DDA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4000" y="2709720"/>
            <a:ext cx="8459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初定专业技术资格网报流程与要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482840" y="479736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九、工作业绩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内容占位符 4" descr=""/>
          <p:cNvPicPr/>
          <p:nvPr/>
        </p:nvPicPr>
        <p:blipFill>
          <a:blip r:embed="rId1"/>
          <a:stretch/>
        </p:blipFill>
        <p:spPr>
          <a:xfrm>
            <a:off x="554040" y="1539720"/>
            <a:ext cx="8132760" cy="1609920"/>
          </a:xfrm>
          <a:prstGeom prst="rect">
            <a:avLst/>
          </a:prstGeom>
          <a:ln w="0">
            <a:noFill/>
          </a:ln>
        </p:spPr>
      </p:pic>
      <p:sp>
        <p:nvSpPr>
          <p:cNvPr id="624" name="文本框 5"/>
          <p:cNvSpPr/>
          <p:nvPr/>
        </p:nvSpPr>
        <p:spPr>
          <a:xfrm>
            <a:off x="660240" y="33559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作业绩填写本人参加教学研究工作材料（论文、课题等），填写基本信息并完成佐证材料上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、工作总结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内容占位符 4" descr=""/>
          <p:cNvPicPr/>
          <p:nvPr/>
        </p:nvPicPr>
        <p:blipFill>
          <a:blip r:embed="rId1"/>
          <a:stretch/>
        </p:blipFill>
        <p:spPr>
          <a:xfrm>
            <a:off x="628560" y="1214280"/>
            <a:ext cx="8218440" cy="3044880"/>
          </a:xfrm>
          <a:prstGeom prst="rect">
            <a:avLst/>
          </a:prstGeom>
          <a:ln w="0">
            <a:noFill/>
          </a:ln>
        </p:spPr>
      </p:pic>
      <p:sp>
        <p:nvSpPr>
          <p:cNvPr id="628" name="文本框 5"/>
          <p:cNvSpPr/>
          <p:nvPr/>
        </p:nvSpPr>
        <p:spPr>
          <a:xfrm>
            <a:off x="596880" y="4321080"/>
            <a:ext cx="83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作总结处填写个人工作总结，注意字数要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一、年度考核信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内容占位符 4" descr=""/>
          <p:cNvPicPr/>
          <p:nvPr/>
        </p:nvPicPr>
        <p:blipFill>
          <a:blip r:embed="rId1"/>
          <a:stretch/>
        </p:blipFill>
        <p:spPr>
          <a:xfrm>
            <a:off x="125280" y="1825560"/>
            <a:ext cx="8894880" cy="1490760"/>
          </a:xfrm>
          <a:prstGeom prst="rect">
            <a:avLst/>
          </a:prstGeom>
          <a:ln w="0">
            <a:noFill/>
          </a:ln>
        </p:spPr>
      </p:pic>
      <p:sp>
        <p:nvSpPr>
          <p:cNvPr id="631" name="文本框 6"/>
          <p:cNvSpPr/>
          <p:nvPr/>
        </p:nvSpPr>
        <p:spPr>
          <a:xfrm>
            <a:off x="490680" y="3611520"/>
            <a:ext cx="816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度考核信息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0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编内录用新教师填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新教师见习期满转正定级考核表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相关信息，并上传考核表原件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0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及之前录用聘用制（员额制）教师上传新教师试用期考核表或年度考核表（有一年填一年），复印件需单位盖章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教师上传单位年度考核表，复印件需单位盖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二、社保缴费证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818208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下载江苏智慧人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点击“服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选择“社会保险”—“个人权益单”—“江苏社会保险权益记录单（参保人员）”—起始年月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2105-202205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保存为图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上传图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三、单位公示及结果报告证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内容占位符 4" descr=""/>
          <p:cNvPicPr/>
          <p:nvPr/>
        </p:nvPicPr>
        <p:blipFill>
          <a:blip r:embed="rId1"/>
          <a:stretch/>
        </p:blipFill>
        <p:spPr>
          <a:xfrm>
            <a:off x="368280" y="1413000"/>
            <a:ext cx="8406000" cy="1825560"/>
          </a:xfrm>
          <a:prstGeom prst="rect">
            <a:avLst/>
          </a:prstGeom>
          <a:ln w="0">
            <a:noFill/>
          </a:ln>
        </p:spPr>
      </p:pic>
      <p:sp>
        <p:nvSpPr>
          <p:cNvPr id="637" name="文本框 5"/>
          <p:cNvSpPr/>
          <p:nvPr/>
        </p:nvSpPr>
        <p:spPr>
          <a:xfrm>
            <a:off x="577800" y="3502080"/>
            <a:ext cx="78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将以上两项模板下载，单位填写意见盖章后，完成材料上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四、其他材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8464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他材料无需填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上所有信息填写完成，核实无误后，点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申报表预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再次核实无误后，点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进入教育行政部门审核环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图片 4" descr=""/>
          <p:cNvPicPr/>
          <p:nvPr/>
        </p:nvPicPr>
        <p:blipFill>
          <a:blip r:embed="rId1"/>
          <a:stretch/>
        </p:blipFill>
        <p:spPr>
          <a:xfrm>
            <a:off x="1409760" y="3692520"/>
            <a:ext cx="63244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五、相关说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7"/>
          <p:cNvSpPr/>
          <p:nvPr/>
        </p:nvSpPr>
        <p:spPr>
          <a:xfrm>
            <a:off x="563400" y="1349280"/>
            <a:ext cx="843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中旬开始申报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截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网上申报信息审核完毕后，请局属各单位职称负责同志注意，初定及申报人员都必须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天内完成申报表的打印、盖章、上交工作。申报表一式两份，双面打印、盖章，单位统一交区教育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室审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系统登录与注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6200" y="1413000"/>
            <a:ext cx="826956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统网址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ttps://rs.jshrss.jiangsu.gov.cn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浏览器极速模式或谷歌浏览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图片 4" descr=""/>
          <p:cNvPicPr/>
          <p:nvPr/>
        </p:nvPicPr>
        <p:blipFill>
          <a:blip r:embed="rId1"/>
          <a:stretch/>
        </p:blipFill>
        <p:spPr>
          <a:xfrm>
            <a:off x="1106640" y="2281320"/>
            <a:ext cx="3027240" cy="360828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7" descr=""/>
          <p:cNvPicPr/>
          <p:nvPr/>
        </p:nvPicPr>
        <p:blipFill>
          <a:blip r:embed="rId2"/>
          <a:stretch/>
        </p:blipFill>
        <p:spPr>
          <a:xfrm>
            <a:off x="5253120" y="2297160"/>
            <a:ext cx="324648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申报入口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5920" y="1722240"/>
            <a:ext cx="3425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册成功后，即可登录，然后在主页面点“个人办事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才人事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专业技术人员管理服务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职称初定申报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申报”，进入申报界面，然后按个人实际情况进行网上申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图片 10" descr=""/>
          <p:cNvPicPr/>
          <p:nvPr/>
        </p:nvPicPr>
        <p:blipFill>
          <a:blip r:embed="rId1"/>
          <a:stretch/>
        </p:blipFill>
        <p:spPr>
          <a:xfrm>
            <a:off x="3817800" y="1695600"/>
            <a:ext cx="522612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基本信息填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图片 4" descr="1"/>
          <p:cNvPicPr/>
          <p:nvPr/>
        </p:nvPicPr>
        <p:blipFill>
          <a:blip r:embed="rId1"/>
          <a:srcRect l="0" t="76191" r="347" b="0"/>
          <a:stretch/>
        </p:blipFill>
        <p:spPr>
          <a:xfrm>
            <a:off x="-196920" y="5570640"/>
            <a:ext cx="9507600" cy="121752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1" descr=""/>
          <p:cNvPicPr/>
          <p:nvPr/>
        </p:nvPicPr>
        <p:blipFill>
          <a:blip r:embed="rId2"/>
          <a:srcRect l="3759" t="245" r="1216" b="913"/>
          <a:stretch/>
        </p:blipFill>
        <p:spPr>
          <a:xfrm>
            <a:off x="-155520" y="1222200"/>
            <a:ext cx="9477360" cy="4413600"/>
          </a:xfrm>
          <a:prstGeom prst="rect">
            <a:avLst/>
          </a:prstGeom>
          <a:ln w="0">
            <a:noFill/>
          </a:ln>
        </p:spPr>
      </p:pic>
      <p:sp>
        <p:nvSpPr>
          <p:cNvPr id="587" name="椭圆 2"/>
          <p:cNvSpPr/>
          <p:nvPr/>
        </p:nvSpPr>
        <p:spPr>
          <a:xfrm>
            <a:off x="0" y="4359240"/>
            <a:ext cx="2444760" cy="36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3"/>
          <p:cNvSpPr/>
          <p:nvPr/>
        </p:nvSpPr>
        <p:spPr>
          <a:xfrm>
            <a:off x="0" y="4930920"/>
            <a:ext cx="2444760" cy="36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4"/>
          <p:cNvSpPr/>
          <p:nvPr/>
        </p:nvSpPr>
        <p:spPr>
          <a:xfrm>
            <a:off x="563400" y="2405160"/>
            <a:ext cx="8134560" cy="919080"/>
          </a:xfrm>
          <a:prstGeom prst="rect">
            <a:avLst/>
          </a:prstGeom>
          <a:solidFill>
            <a:srgbClr val="a6a6a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椭圆 4"/>
          <p:cNvSpPr/>
          <p:nvPr/>
        </p:nvSpPr>
        <p:spPr>
          <a:xfrm>
            <a:off x="6434280" y="4930920"/>
            <a:ext cx="2444760" cy="36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5"/>
          <p:cNvSpPr/>
          <p:nvPr/>
        </p:nvSpPr>
        <p:spPr>
          <a:xfrm>
            <a:off x="709560" y="2451240"/>
            <a:ext cx="784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工作单位性质民办幼儿园改成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民办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，行政主管部门改成常州市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天宁区教育局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，报送受理部门改成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天宁区职称办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。填写完整无误后（幼儿园教师现从事专业，申报专业选择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幼儿园教师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），点击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暂存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，点击左侧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学历学位信息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，进入下一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5"/>
          <p:cNvSpPr/>
          <p:nvPr/>
        </p:nvSpPr>
        <p:spPr>
          <a:xfrm>
            <a:off x="2587680" y="6423120"/>
            <a:ext cx="1539720" cy="28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6"/>
          <p:cNvSpPr/>
          <p:nvPr/>
        </p:nvSpPr>
        <p:spPr>
          <a:xfrm>
            <a:off x="2635200" y="64450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选天宁区职称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7"/>
          <p:cNvSpPr/>
          <p:nvPr/>
        </p:nvSpPr>
        <p:spPr>
          <a:xfrm>
            <a:off x="934920" y="6454800"/>
            <a:ext cx="1335240" cy="29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8"/>
          <p:cNvSpPr/>
          <p:nvPr/>
        </p:nvSpPr>
        <p:spPr>
          <a:xfrm>
            <a:off x="934920" y="6480000"/>
            <a:ext cx="13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天宁区职称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0"/>
          <p:cNvSpPr/>
          <p:nvPr/>
        </p:nvSpPr>
        <p:spPr>
          <a:xfrm>
            <a:off x="7977240" y="3416400"/>
            <a:ext cx="1333440" cy="29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11"/>
          <p:cNvSpPr/>
          <p:nvPr/>
        </p:nvSpPr>
        <p:spPr>
          <a:xfrm>
            <a:off x="7977240" y="4359240"/>
            <a:ext cx="133344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2"/>
          <p:cNvSpPr/>
          <p:nvPr/>
        </p:nvSpPr>
        <p:spPr>
          <a:xfrm>
            <a:off x="7243920" y="1384200"/>
            <a:ext cx="733320" cy="8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学历学位信息填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内容占位符 6" descr=""/>
          <p:cNvPicPr/>
          <p:nvPr/>
        </p:nvPicPr>
        <p:blipFill>
          <a:blip r:embed="rId1"/>
          <a:stretch/>
        </p:blipFill>
        <p:spPr>
          <a:xfrm>
            <a:off x="295200" y="1293840"/>
            <a:ext cx="8663040" cy="106668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7" descr=""/>
          <p:cNvPicPr/>
          <p:nvPr/>
        </p:nvPicPr>
        <p:blipFill>
          <a:blip r:embed="rId2"/>
          <a:stretch/>
        </p:blipFill>
        <p:spPr>
          <a:xfrm>
            <a:off x="388800" y="2360520"/>
            <a:ext cx="8570880" cy="230364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8" descr=""/>
          <p:cNvPicPr/>
          <p:nvPr/>
        </p:nvPicPr>
        <p:blipFill>
          <a:blip r:embed="rId3"/>
          <a:stretch/>
        </p:blipFill>
        <p:spPr>
          <a:xfrm>
            <a:off x="44280" y="4869000"/>
            <a:ext cx="8790120" cy="1062000"/>
          </a:xfrm>
          <a:prstGeom prst="rect">
            <a:avLst/>
          </a:prstGeom>
          <a:ln w="0">
            <a:noFill/>
          </a:ln>
        </p:spPr>
      </p:pic>
      <p:sp>
        <p:nvSpPr>
          <p:cNvPr id="604" name="文本框 9"/>
          <p:cNvSpPr/>
          <p:nvPr/>
        </p:nvSpPr>
        <p:spPr>
          <a:xfrm>
            <a:off x="515880" y="6037200"/>
            <a:ext cx="83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，完成基本信息填写后保存，上传学历、学位证书（高中以后、扫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，点击暂存，进入下一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业技术资格填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、专业技术资格（职业资格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内容占位符 4" descr=""/>
          <p:cNvPicPr/>
          <p:nvPr/>
        </p:nvPicPr>
        <p:blipFill>
          <a:blip r:embed="rId1"/>
          <a:stretch/>
        </p:blipFill>
        <p:spPr>
          <a:xfrm>
            <a:off x="14400" y="1662120"/>
            <a:ext cx="9115200" cy="3798720"/>
          </a:xfrm>
          <a:prstGeom prst="rect">
            <a:avLst/>
          </a:prstGeom>
          <a:ln w="0">
            <a:noFill/>
          </a:ln>
        </p:spPr>
      </p:pic>
      <p:sp>
        <p:nvSpPr>
          <p:cNvPr id="608" name="文本框 1"/>
          <p:cNvSpPr/>
          <p:nvPr/>
        </p:nvSpPr>
        <p:spPr>
          <a:xfrm>
            <a:off x="1036800" y="5602320"/>
            <a:ext cx="74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添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填写基本信息后，还需佐证材料上传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格式）。下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、奖惩情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内容占位符 4" descr=""/>
          <p:cNvPicPr/>
          <p:nvPr/>
        </p:nvPicPr>
        <p:blipFill>
          <a:blip r:embed="rId1"/>
          <a:stretch/>
        </p:blipFill>
        <p:spPr>
          <a:xfrm>
            <a:off x="12600" y="1477800"/>
            <a:ext cx="8967960" cy="2843280"/>
          </a:xfrm>
          <a:prstGeom prst="rect">
            <a:avLst/>
          </a:prstGeom>
          <a:ln w="0">
            <a:noFill/>
          </a:ln>
        </p:spPr>
      </p:pic>
      <p:sp>
        <p:nvSpPr>
          <p:cNvPr id="612" name="文本框 5"/>
          <p:cNvSpPr/>
          <p:nvPr/>
        </p:nvSpPr>
        <p:spPr>
          <a:xfrm>
            <a:off x="577800" y="4303800"/>
            <a:ext cx="82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奖惩情况如实填写，并上传佐证材料，如没有，则无需填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七、工作经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内容占位符 4" descr=""/>
          <p:cNvPicPr/>
          <p:nvPr/>
        </p:nvPicPr>
        <p:blipFill>
          <a:blip r:embed="rId1"/>
          <a:stretch/>
        </p:blipFill>
        <p:spPr>
          <a:xfrm>
            <a:off x="96840" y="1941480"/>
            <a:ext cx="8589960" cy="1744560"/>
          </a:xfrm>
          <a:prstGeom prst="rect">
            <a:avLst/>
          </a:prstGeom>
          <a:ln w="0">
            <a:noFill/>
          </a:ln>
        </p:spPr>
      </p:pic>
      <p:sp>
        <p:nvSpPr>
          <p:cNvPr id="616" name="文本框 5"/>
          <p:cNvSpPr/>
          <p:nvPr/>
        </p:nvSpPr>
        <p:spPr>
          <a:xfrm>
            <a:off x="779400" y="3927600"/>
            <a:ext cx="73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作经历如实填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八、继续教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内容占位符 4" descr=""/>
          <p:cNvPicPr/>
          <p:nvPr/>
        </p:nvPicPr>
        <p:blipFill>
          <a:blip r:embed="rId1"/>
          <a:stretch/>
        </p:blipFill>
        <p:spPr>
          <a:xfrm>
            <a:off x="628560" y="1671480"/>
            <a:ext cx="8021880" cy="1651320"/>
          </a:xfrm>
          <a:prstGeom prst="rect">
            <a:avLst/>
          </a:prstGeom>
          <a:ln w="0">
            <a:noFill/>
          </a:ln>
        </p:spPr>
      </p:pic>
      <p:sp>
        <p:nvSpPr>
          <p:cNvPr id="620" name="文本框 5"/>
          <p:cNvSpPr/>
          <p:nvPr/>
        </p:nvSpPr>
        <p:spPr>
          <a:xfrm>
            <a:off x="898560" y="35863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继续教育分为公共科目合格证汇总表、新任教师上岗培训证明（师发学院提供，仅需编内参加新教师上岗培训教师提供）、区级培训、校本培训，填写基本信息完成佐证材料上传。公共科目合格证门数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参加工作年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+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6:01:27Z</dcterms:created>
  <dc:creator/>
  <dc:description/>
  <dc:language>en-US</dc:language>
  <cp:lastModifiedBy>Administrator</cp:lastModifiedBy>
  <dcterms:modified xsi:type="dcterms:W3CDTF">2022-06-10T01:53:37Z</dcterms:modified>
  <cp:revision>115</cp:revision>
  <dc:subject/>
  <dc:title>职称评审系统使用（申报者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9442953A6D743CBBDF4A05E11CB0D71</vt:lpwstr>
  </property>
  <property fmtid="{D5CDD505-2E9C-101B-9397-08002B2CF9AE}" pid="3" name="KSOProductBuildVer">
    <vt:lpwstr>2052-11.1.0.11411</vt:lpwstr>
  </property>
</Properties>
</file>